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8A21-CB77-496C-A3CD-9591E432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1EC4-0865-4D24-B2EE-4AFC6E75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F941-791E-4336-8CF6-75CEF567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8D48-13DC-4CFC-97B1-D1A0FC78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0374-C216-4E85-9976-AEB8725B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2081-A58B-4E62-91DF-89E47087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DEC-200D-49E2-9D68-B95E0958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FCB0-0F99-4806-AC8B-F5E23874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2F2A-6D3E-4D38-B558-C47588C9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A268-FFA5-43B1-A79A-8F797FF6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57A-3D4F-4DF6-B8B0-90E05703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24DB-48D6-4AEE-AECC-B6395F7E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A73D-757C-4C1F-9175-F1057EC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9E23-2820-4129-B71F-4A10148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EF6C-F021-4A62-9484-8F42FE44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4A7B-77AE-433E-B3FC-C11B2C98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BE56-F0D0-4AE5-A647-36FB8ACA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7042-3DA6-4420-BF6D-38D8304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FD93-29BE-4AAD-B52A-2472FEC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35DC-4231-44E4-A76E-52BABE4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89D8-F426-42A3-BBD3-DF969F67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1539-2D0F-4AA4-AC52-2D1E6A1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6620-8CA4-49B2-9FE7-0B4CB81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7FCF-5B15-444D-B1C8-6B24D45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D20E-A17B-4FD9-90A9-3A3A903BD98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BF7-21B7-4D7F-B50C-AD84D4F0717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71 (67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Ей, има още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вечния покой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м бури не достига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 ветреният в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колко сладка реч 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Господ казва сам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ма още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то там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ма там място за теб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ясто за теб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ма още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то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Ей, има още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ораб чака 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ти не се забавя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иде вече но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може да измер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истовата любов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Словото Му вярва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ма там място за теб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ясто за теб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ма още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то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Аз всеки ден пътув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ъм горний славен бряг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там ще пея п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, при Бога в век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ухът е там свобод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всички изпит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ще покой наме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м, в висин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ма там място за теб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ясто за теб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ма още мяс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то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24T09:04:33Z</dcterms:modified>
  <cp:revision>103</cp:revision>
  <dc:subject/>
  <dc:title>Slide 1</dc:title>
</cp:coreProperties>
</file>